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23BB-EF99-4038-94E5-04228937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175D-C0DC-4A7D-97E5-E70E6B8B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2125-2BEA-4C75-B430-7DA0C820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9FA5-38A9-49EC-927C-267E7694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BCC4-2B70-4860-A068-6A71E426D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7D38-AD44-4891-98D5-C626A1D2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DC2F-4BEE-4E08-BAD2-FFB5939D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83B9-C388-4B70-93F2-313E2E75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36C-78CD-4994-9F2E-4141B932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6D4D-5054-4E1E-96A8-69FF57D8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8151-B7F1-4081-8EAA-AEB173DF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168DB-94C5-4F39-92D1-531D001C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4353-22FA-4C3B-8F41-92C0D46E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E648-47F7-4451-B8D2-9CE48A27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0528-2E6D-49CB-97D1-047514AB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24A9-008A-4141-8F82-088D665F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8BB0-B5F8-4A62-909B-CF094808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DFD3-9C71-426A-856B-0C93461C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7D26-1FEA-4A6D-A3A2-544EE606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8DD0-F882-496B-A1CD-C8195515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4119-3695-4BD0-B09F-C3B80CE3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12E5-F1C3-4E37-B347-CE42DF7C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B2AC-62F8-4C62-BFE3-2621665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946E-4669-4310-BCA6-0846C61E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A0EE-5E09-49D1-BAC9-05A49E670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05D8-BB05-43B4-B67E-B5FEC99D7A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Writing Algebraic Express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Rectangle 4"/>
          <p:cNvSpPr/>
          <p:nvPr/>
        </p:nvSpPr>
        <p:spPr>
          <a:xfrm>
            <a:off x="457200" y="3657600"/>
            <a:ext cx="822960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Objectiv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able to write an algebraic expression for a word phrase or write  a word phrase for an express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Not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ication expressions should be written in side-by-side form, with the number always in front of the variabl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2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1.5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0.4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20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Not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ision expressions should be written using the fraction bar instead of the traditional division sig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2" name="Object 6"/>
          <p:cNvGraphicFramePr/>
          <p:nvPr/>
        </p:nvGraphicFramePr>
        <p:xfrm>
          <a:off x="1447920" y="4572000"/>
          <a:ext cx="81108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572000"/>
                    <a:ext cx="8110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5"/>
          <p:cNvGraphicFramePr/>
          <p:nvPr/>
        </p:nvGraphicFramePr>
        <p:xfrm>
          <a:off x="2971800" y="4648320"/>
          <a:ext cx="754200" cy="160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4648320"/>
                    <a:ext cx="754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4"/>
          <p:cNvGraphicFramePr/>
          <p:nvPr/>
        </p:nvGraphicFramePr>
        <p:xfrm>
          <a:off x="4343400" y="4724280"/>
          <a:ext cx="930240" cy="1524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724280"/>
                    <a:ext cx="930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919800" y="923400"/>
            <a:ext cx="127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920520" y="2241360"/>
            <a:ext cx="146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ddition phras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 more than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um of 10 and a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increased by 4.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5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991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Subtraction phras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numb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ecreased by 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fference between 10 and a numb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less than a numb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z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ultiplication phras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oduct of 3 and a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ice the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2 times a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67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ivision phras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0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otient of 25 and a numb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umber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ivided by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1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5 divid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67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nverting  f  feet into in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 car travels at 75 mph for h hou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area of a rectangle with a length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of 10 and a width of 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67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nverting i inches into f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cost for tickets if you purchase 5 adult tickets at x dollars e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cost for tickets if you purchase 3 children’s tickets at y dollars eac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Exampl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6775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total cost for 5 adult tickets and 3 children’s tickets using the dollar amounts from the previous two problems (problems e and f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57200" y="304920"/>
            <a:ext cx="8153280" cy="5943600"/>
          </a:xfrm>
          <a:prstGeom prst="rect">
            <a:avLst/>
          </a:prstGeom>
          <a:noFill/>
          <a:ln w="28440">
            <a:solidFill>
              <a:srgbClr val="dbdb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arm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valuate each algebraic expression for the given value of the vari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    7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+ 4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.)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8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22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.)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12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+   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 7 an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.)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+ 3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or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5 an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=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4901400" y="2056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130000" y="3123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034760" y="4266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6"/>
          <p:cNvSpPr/>
          <p:nvPr/>
        </p:nvSpPr>
        <p:spPr>
          <a:xfrm>
            <a:off x="2221200" y="4191120"/>
            <a:ext cx="35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6653880" y="54864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2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533520" y="533520"/>
            <a:ext cx="5181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though they are closely related, a Great Dane weighs about 40 times as much as a Chihuahu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838080" y="49528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n solving real-world problems, you will need to translate words, or verbal expressions, into algebraic expres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5257800" y="0"/>
            <a:ext cx="3695760" cy="27874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380880" y="2971800"/>
            <a:ext cx="6400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 expression for the weight of the Great Dane could be 40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where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is the weight of the Chihuah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Notes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order to translate a word phrase into an algebraic expression, we must first know some key word phrases for the basic operation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On the back of your notes: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371600" y="1371600"/>
          <a:ext cx="6553080" cy="5105520"/>
        </p:xfrm>
        <a:graphic>
          <a:graphicData uri="http://schemas.openxmlformats.org/drawingml/2006/table">
            <a:tbl>
              <a:tblPr/>
              <a:tblGrid>
                <a:gridCol w="3186000"/>
                <a:gridCol w="3367080"/>
              </a:tblGrid>
              <a:tr h="25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ddi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ubtra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ultiplic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ivis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Addition Phrases: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rease 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ater th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5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5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Subtraction Phrases: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reased 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fference betwe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ke Awa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tra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s than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tract from*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Multiplication Phrases: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ice or dou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Arial"/>
              </a:rPr>
              <a:t>Division Phrases: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oti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v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vided b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lit equal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8:58:29Z</dcterms:created>
  <dc:creator>HPISD</dc:creator>
  <dc:description/>
  <dc:language>en-US</dc:language>
  <cp:lastModifiedBy>cti</cp:lastModifiedBy>
  <dcterms:modified xsi:type="dcterms:W3CDTF">2014-10-25T04:12:10Z</dcterms:modified>
  <cp:revision>10</cp:revision>
  <dc:subject/>
  <dc:title>Writing Algebraic Expressions</dc:title>
</cp:coreProperties>
</file>